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99B-18D8-4BBA-9F02-DAC4E3B4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3C6-012D-4BD1-9962-3CB73D1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182-C862-455E-A9B8-C07EC1D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391-D2E6-4149-A401-F2BD116A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F502-96A8-49CE-AA7C-33C41AA9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C3B-C12E-4215-9A06-D8EC78B5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C205-3D0C-466A-88BA-B198A1B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222B-2A0A-4F18-AF35-2745A902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3FB-3682-4EE3-B21C-4A72DD87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E60-E136-4846-B92F-ABAB07BD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1914-BEEF-4217-B1F0-3691C99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D6F-190C-4505-9FAD-176B7A7A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4AE-8935-4B0D-9C51-2678647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0124-3F4B-47F4-ADE9-B84E119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B91-FDC6-430B-8B0A-8DDF1AD4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20E3-9BF1-49BC-83AF-F1A23848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034-1E91-4223-B0FD-69CFE8B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EAF-63DA-4D71-9D9D-D8BD811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06F-5ADD-497E-8E71-6F10DB84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5FC-5DB6-4C99-B5B4-EEA9991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5EB-57DE-42DD-9716-6C638DE8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4EC-082A-4F54-A6CD-F799EED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BAA-84FD-429A-9A20-2EB54A2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32C-3C51-460F-8EF4-B340B83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54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65E-99D1-40F4-AD74-B28F596F7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1F0-E5D1-4DE6-B934-B1B52A92D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gl.microsoft.com/" TargetMode="External"/><Relationship Id="rId2" Type="http://schemas.openxmlformats.org/officeDocument/2006/relationships/hyperlink" Target="http://cgl.microsoft.com/" TargetMode="External"/><Relationship Id="rId3" Type="http://schemas.openxmlformats.org/officeDocument/2006/relationships/hyperlink" Target="http://cgl.microsoft.com/" TargetMode="External"/><Relationship Id="rId4" Type="http://schemas.openxmlformats.org/officeDocument/2006/relationships/hyperlink" Target="http://cgl.microsoft.com/" TargetMode="External"/><Relationship Id="rId5" Type="http://schemas.openxmlformats.org/officeDocument/2006/relationships/hyperlink" Target="http://cgl.microsoft.com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I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j0282809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410080" y="1447920"/>
            <a:ext cx="3276720" cy="35049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523880"/>
            <a:ext cx="35812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step is to place the decimal in the quotient directly above the decim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0800" y="16002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86400" y="2590920"/>
            <a:ext cx="3276720" cy="2590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743200"/>
            <a:ext cx="35812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th step is to divide using long divis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30800" y="16002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1600200"/>
            <a:ext cx="7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56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940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191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94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3505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66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6600" y="1600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94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66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56386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6600" y="5410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638680" y="1523880"/>
            <a:ext cx="3505320" cy="3657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523880"/>
            <a:ext cx="35812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fth step is to move the decimal point 2 places to the right and change it to a percent sig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152388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1600200"/>
            <a:ext cx="7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56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940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94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505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66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6600" y="1600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66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56386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6600" y="5410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3440" y="160020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36232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morize These Equival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242424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22860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9098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358128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" y="34290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40384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472428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572000"/>
            <a:ext cx="71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958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86728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240" y="57294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320" y="2133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320" y="3200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5320" y="42670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5320" y="53341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198108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304812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11480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75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51814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3.3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7320" y="2209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7320" y="3276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7320" y="4343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7320" y="54100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000" y="2057400"/>
            <a:ext cx="162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6.6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05720" y="312408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419112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257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82880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25002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7840" y="236232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297180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3657600"/>
            <a:ext cx="609840" cy="6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7840" y="350532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0384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0080" y="4724280"/>
            <a:ext cx="609840" cy="6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7840" y="45720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51958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5881680"/>
            <a:ext cx="609840" cy="6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7840" y="57294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251460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5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47600" y="3048120"/>
            <a:ext cx="28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3.3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3048120"/>
            <a:ext cx="28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6.6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Divide the denominator into   the numerat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429000"/>
            <a:ext cx="762120" cy="3050280"/>
            <a:chOff x="838080" y="3429000"/>
            <a:chExt cx="762120" cy="3050280"/>
          </a:xfrm>
        </p:grpSpPr>
        <p:sp>
          <p:nvSpPr>
            <p:cNvPr id="94" name=""/>
            <p:cNvSpPr/>
            <p:nvPr/>
          </p:nvSpPr>
          <p:spPr>
            <a:xfrm>
              <a:off x="915840" y="3429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448776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5840" y="419076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7" name="PRFPL019" descr=""/>
          <p:cNvPicPr/>
          <p:nvPr/>
        </p:nvPicPr>
        <p:blipFill>
          <a:blip r:embed="rId1"/>
          <a:stretch/>
        </p:blipFill>
        <p:spPr>
          <a:xfrm>
            <a:off x="6504120" y="3124080"/>
            <a:ext cx="2639880" cy="3300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57400" y="3276720"/>
            <a:ext cx="4191120" cy="2819160"/>
          </a:xfrm>
          <a:prstGeom prst="wedgeRoundRectCallout">
            <a:avLst>
              <a:gd name="adj1" fmla="val 61513"/>
              <a:gd name="adj2" fmla="val 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276720"/>
            <a:ext cx="4243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!  You ca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 a lar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into 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r numb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lustrations fro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l Gallery by Corel 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derbund ClipArt T/Maker 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part from “Microsoft Cli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llery” located on the Interne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gl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microsoft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.com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ipgallerylive/default.as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Divide the denominator into   the numerat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429000"/>
            <a:ext cx="762120" cy="3050280"/>
            <a:chOff x="838080" y="3429000"/>
            <a:chExt cx="762120" cy="3050280"/>
          </a:xfrm>
        </p:grpSpPr>
        <p:sp>
          <p:nvSpPr>
            <p:cNvPr id="103" name=""/>
            <p:cNvSpPr/>
            <p:nvPr/>
          </p:nvSpPr>
          <p:spPr>
            <a:xfrm>
              <a:off x="915840" y="3429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448776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5840" y="419076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66880" y="3276720"/>
            <a:ext cx="4038840" cy="1676160"/>
          </a:xfrm>
          <a:prstGeom prst="wedgeRoundRectCallout">
            <a:avLst>
              <a:gd name="adj1" fmla="val 71185"/>
              <a:gd name="adj2" fmla="val 2149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76720"/>
            <a:ext cx="42436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 you can if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use decimal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watch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CRTAN047" descr=""/>
          <p:cNvPicPr/>
          <p:nvPr/>
        </p:nvPicPr>
        <p:blipFill>
          <a:blip r:embed="rId1"/>
          <a:stretch/>
        </p:blipFill>
        <p:spPr>
          <a:xfrm>
            <a:off x="7184880" y="36576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– Add a decimal behind your dividend and two zero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3809880"/>
            <a:ext cx="762120" cy="3050640"/>
            <a:chOff x="457200" y="3809880"/>
            <a:chExt cx="762120" cy="3050640"/>
          </a:xfrm>
        </p:grpSpPr>
        <p:sp>
          <p:nvSpPr>
            <p:cNvPr id="112" name=""/>
            <p:cNvSpPr/>
            <p:nvPr/>
          </p:nvSpPr>
          <p:spPr>
            <a:xfrm>
              <a:off x="534960" y="380988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486900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960" y="457200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8800" y="2971800"/>
            <a:ext cx="4952880" cy="1295280"/>
          </a:xfrm>
          <a:prstGeom prst="wedgeRoundRectCallout">
            <a:avLst>
              <a:gd name="adj1" fmla="val 64935"/>
              <a:gd name="adj2" fmla="val 4706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3048120"/>
            <a:ext cx="495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does it look like you can divid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28800" y="438300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724280"/>
            <a:ext cx="2667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9400" y="44956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RTAN047" descr=""/>
          <p:cNvPicPr/>
          <p:nvPr/>
        </p:nvPicPr>
        <p:blipFill>
          <a:blip r:embed="rId1"/>
          <a:stretch/>
        </p:blipFill>
        <p:spPr>
          <a:xfrm>
            <a:off x="7184880" y="36576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3 – Place a decimal in your quotient exactly above the decim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762120" cy="3050640"/>
            <a:chOff x="457200" y="3809880"/>
            <a:chExt cx="762120" cy="3050640"/>
          </a:xfrm>
        </p:grpSpPr>
        <p:sp>
          <p:nvSpPr>
            <p:cNvPr id="125" name=""/>
            <p:cNvSpPr/>
            <p:nvPr/>
          </p:nvSpPr>
          <p:spPr>
            <a:xfrm>
              <a:off x="534960" y="380988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486900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4960" y="457200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43000" y="2971800"/>
            <a:ext cx="5791320" cy="1295280"/>
          </a:xfrm>
          <a:prstGeom prst="wedgeRoundRectCallout">
            <a:avLst>
              <a:gd name="adj1" fmla="val 66421"/>
              <a:gd name="adj2" fmla="val 5674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048120"/>
            <a:ext cx="6553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ting the decimal in the right spot is import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438300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724280"/>
            <a:ext cx="2667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9400" y="44956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49568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3657600"/>
            <a:ext cx="4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495680"/>
            <a:ext cx="12952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CRTAN047" descr=""/>
          <p:cNvPicPr/>
          <p:nvPr/>
        </p:nvPicPr>
        <p:blipFill>
          <a:blip r:embed="rId1"/>
          <a:stretch/>
        </p:blipFill>
        <p:spPr>
          <a:xfrm>
            <a:off x="7184880" y="36576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– Divide exactly like you would with long divis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" y="3809880"/>
            <a:ext cx="762120" cy="3050640"/>
            <a:chOff x="457200" y="3809880"/>
            <a:chExt cx="762120" cy="3050640"/>
          </a:xfrm>
        </p:grpSpPr>
        <p:sp>
          <p:nvSpPr>
            <p:cNvPr id="140" name=""/>
            <p:cNvSpPr/>
            <p:nvPr/>
          </p:nvSpPr>
          <p:spPr>
            <a:xfrm>
              <a:off x="534960" y="380988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86900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960" y="457200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629400" y="2895480"/>
            <a:ext cx="1828800" cy="1143000"/>
          </a:xfrm>
          <a:prstGeom prst="wedgeRoundRectCallout">
            <a:avLst>
              <a:gd name="adj1" fmla="val -5296"/>
              <a:gd name="adj2" fmla="val 92361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2895480"/>
            <a:ext cx="1905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3880" y="35449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886200"/>
            <a:ext cx="2666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448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65760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819520"/>
            <a:ext cx="4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289548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480" y="429732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 8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52578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40280" y="50292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64832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02920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7480" y="28954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563868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63868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65530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172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CRTAN047" descr=""/>
          <p:cNvPicPr/>
          <p:nvPr/>
        </p:nvPicPr>
        <p:blipFill>
          <a:blip r:embed="rId1"/>
          <a:stretch/>
        </p:blipFill>
        <p:spPr>
          <a:xfrm>
            <a:off x="7184880" y="38862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5 – Move the decimal 2 places to the right and change the decimal to a percent sig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3733920"/>
            <a:ext cx="762120" cy="3050280"/>
            <a:chOff x="1143000" y="3733920"/>
            <a:chExt cx="762120" cy="3050280"/>
          </a:xfrm>
        </p:grpSpPr>
        <p:sp>
          <p:nvSpPr>
            <p:cNvPr id="166" name=""/>
            <p:cNvSpPr/>
            <p:nvPr/>
          </p:nvSpPr>
          <p:spPr>
            <a:xfrm>
              <a:off x="1220760" y="373392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479268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0760" y="449568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410080" y="3048120"/>
            <a:ext cx="3353040" cy="1143000"/>
          </a:xfrm>
          <a:prstGeom prst="wedgeRoundRectCallout">
            <a:avLst>
              <a:gd name="adj1" fmla="val -1703"/>
              <a:gd name="adj2" fmla="val 89027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048120"/>
            <a:ext cx="3047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asn’t that eas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886200"/>
            <a:ext cx="41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96252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308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18148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4840" y="396252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11840" y="4038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CRTAN047" descr=""/>
          <p:cNvPicPr/>
          <p:nvPr/>
        </p:nvPicPr>
        <p:blipFill>
          <a:blip r:embed="rId1"/>
          <a:stretch/>
        </p:blipFill>
        <p:spPr>
          <a:xfrm>
            <a:off x="7184880" y="4038480"/>
            <a:ext cx="1959120" cy="250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95480" y="4724280"/>
            <a:ext cx="3812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57800" y="1828800"/>
            <a:ext cx="3581280" cy="2743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1828800"/>
            <a:ext cx="35812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tep is to divide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o the numerat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791320" y="1905120"/>
            <a:ext cx="3047760" cy="32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057400"/>
            <a:ext cx="35812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o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s to ad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ecimal &amp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zeros after the dividen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Monica/Bob Yuskaitis</cp:lastModifiedBy>
  <dcterms:modified xsi:type="dcterms:W3CDTF">2000-02-24T15:27:39Z</dcterms:modified>
  <cp:revision>21</cp:revision>
  <dc:subject/>
  <dc:title>Percent</dc:title>
</cp:coreProperties>
</file>